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255-1A2D-4776-8611-4E556E8E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805-258A-459F-8E67-882AA7D1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857-5C82-4109-A202-1CA6DDDF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1FC-AACC-4376-912C-C8CF2121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B730-2F9E-49EF-BD13-56CC3E97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1B2D-2A36-4A3E-A6A4-C3D007C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F91E-9AFD-4496-9A03-02B90505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4D70-4336-4C70-AC5E-F455F88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49C7-0051-4BDF-B3F6-5A1733BA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AF6A-FFB4-42B5-899A-D669A82F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497E-9DED-4C37-851B-B190100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743-9040-411D-85C8-89964DAB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2A59-33EA-44C1-A7E5-67B19527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8A7-C4CC-4355-934C-70C8FCB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34A1-B2DA-41FD-ABDD-DC3966B5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4AC4-9E88-47AE-855E-A7B56C1D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2A78-6408-45DF-9A4A-637A4982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D67-4809-4EB4-9571-CDE5DD49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23A-328D-4EF6-96BA-3250EA06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C3A-073E-4674-BD8C-6FC1D30B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192-0DB1-4764-83FD-37685C7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02D-DE8F-4858-8542-85FD81B0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58A-639D-4F25-AB84-6E75733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FCD-52B3-44F1-B30A-19E619D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1B12-57E9-4042-8C91-CF807876A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ED49-8D40-491A-96B2-FFEEC6C95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chigan.gov/documents/mde/02_-_Fall_2009_MEAP_State_Demographic_Report_314208_7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sing Assessments to Plan for Learn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P and MME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CLB (200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cademic achievement of lower perform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proficient in math and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tudents in Math &amp; Reading every year i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once in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reported by race, ethnicity, gender, disability status, migrant status, English proficiency, and economically disadvant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michigan.gov/documents/mde/02_-_Fall_2009_MEAP_State_Demographic_Report_314208_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ctions are enforced if any of the groups fail to make AYP (adequate yearly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take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ypes of Standardized Test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n Referenc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individual student scores to a set of predefine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 give information about the degree to which the test content was ma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 Refere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individual scores to the scores of a group of students who have taken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 indicate standing relative to tha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how much a student has learned in various academic cont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n a regular basis in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that estimates a student’s potenti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by schools for placement in specializ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reas Assess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6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(Grades 5 &amp;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udies (Grades 6 &amp;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ance Level Descript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P/M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ally Pro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Pro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nalysis Activ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5998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your MEAP/MME data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you collect MEAP/MME data from a different school district (you’ll have 4 total to comp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your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1500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does your district compare to the state aver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does your district compare to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6:25:17Z</dcterms:created>
  <dc:creator>emu</dc:creator>
  <dc:description/>
  <dc:language>en-US</dc:language>
  <cp:lastModifiedBy>EMU User</cp:lastModifiedBy>
  <dcterms:modified xsi:type="dcterms:W3CDTF">2010-09-14T16:20:27Z</dcterms:modified>
  <cp:revision>5</cp:revision>
  <dc:subject/>
  <dc:title>Slide 1</dc:title>
</cp:coreProperties>
</file>